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5EA-3593-40B7-BDC0-C3EAB7DF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7E3-C809-44D2-B62F-42D3DB96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034-6584-4C12-B875-EB6DEBD7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17F-0C69-4720-9475-41095C68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DF7-1F62-4045-8CED-53B89B78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D77-CAC0-43F1-949B-868BB62C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C23-B215-46E4-A06D-A1F1AF33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63E-1621-4BFE-9BB9-40C07FF5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11F-80C3-4032-8256-50B71A06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8E3-1DFA-4AD7-9B72-95DEB0CC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D45-7ED8-4FE9-8317-FC0B4CB2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347-EE87-4332-8A03-481281C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614-7D0C-4426-8AC4-7EA2F78B7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5 V Kristovi len, duša mil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len, duša mi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jdeš pokoj, radosť, mier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odpočinok, s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svoje srdce z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to iný v šírom sve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i bôľ tvoj, hlad a smäd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ranách ukrytý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ženosti večn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pokoja, biedy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ätku srdca, jarma ví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chráni ťa láska svä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ú zjavil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čo hľadáš ustavi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o, čo je bezcenné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rlou, ktorá trvá večn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– naš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i sa len na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lo dúfaj, pevne ver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rada je vždy 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aj tvojmu srdcu sm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omoc ti dary Duc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ove pravdy zasľúb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imi spásu večnú nú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 kríži vydoby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28:54Z</dcterms:modified>
  <cp:revision>20</cp:revision>
  <dc:subject/>
  <dc:title>Je veľký náš Pán, on slávy je Kráľ Nech do všetkých strán  spev vrúcnych znie chvál.</dc:title>
</cp:coreProperties>
</file>